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2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2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2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E12790-084C-47E2-9041-5035C4863F3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9D9063-C613-4847-BA65-FD557E7382FC}" type="slidenum">
              <a:rPr b="0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9EEF80-8A09-4A61-BE8B-E2DD5528B786}" type="slidenum">
              <a:rPr b="0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B5716A-ED5D-48F9-8B48-652A3066615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90D1CF-B2E1-4180-A42B-7F1357C77B0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759BD5-651B-42FA-9D23-5A0894C4988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149C1C-7C67-4E77-8746-F90CED6DA82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C04530-1822-49CE-A45A-3DD804DBC60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8C3891-80FD-43E1-A22E-FC44F1A527F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6755FE-B1BE-4545-AE44-09CDC1C2C7F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83A879-B002-4CBF-9012-64D81199C02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6BB91B-1E15-42BF-9DDD-C94F0E9530B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9B987-0FA9-41F4-8476-6BA676125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EE131-B815-4208-B193-E8497994217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54B19-2BC0-4B30-B5EA-7D8E2435D4F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A9928-4867-4CF6-8179-499E7CB297A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FBB8C-B175-468F-9417-657A1BBA2EB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4F31B-ADBB-468A-AABF-78870AE4E91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9AEE2-4A00-441D-9F65-19F6ADCF5FE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4D4D3-3B08-490D-8C31-74E304EF706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9D3D5-B94E-4C4B-AAB1-439D2B9CCD5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D15E7-ED72-4155-88F0-B3BF4E19238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56FD6-A40E-4F7E-8710-39371B98F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4226A-C26A-4FE3-A999-CBD664F644C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5F9EB8-92E9-4EA0-B200-B0F63A6B623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2B255B-03D1-4B36-92FA-584838022DD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94E644-F803-4884-9115-DC300288239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18CB26-2BE9-4172-9BA1-FF7333675AC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567EF-E8BA-499E-B096-7A9A1CF8A7B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4C845-250E-4FDE-AAB3-CABA26F486D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5A49DD-70EC-4316-8FAE-010B324F5C1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0390C8-9705-4C62-AC96-89FF4B69BA3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606F9D-74DB-4153-818E-0A7F0D96A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5E1A-4B8D-4662-B228-B37CA3E8485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A8AF55-3497-470E-9977-5C3CD910DCE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3F6B40-ECE2-4892-8F05-10627107366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AFBCC5-C42C-4C39-A1B3-25F97848DD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C507-CFAD-4A91-B9F6-58319FE26E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46FB-EFC7-477F-AE30-BDBB13F16A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806C-03C9-413C-8543-5893C6C01C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CEEEF-4AE8-42AA-959C-1E75D9FACE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6D61-8A87-46C8-8CB4-06B92B6FDD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03DA-A0A9-4D6B-A3CE-A695CF46DB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C32C-F63A-4D84-BB6E-57478F2187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B041-D7AA-4EEE-9ED6-A231A30D68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BA5E-32E1-4173-8EC4-3CF48D1E05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E2EF-09D4-4759-BAAB-EDC57814B8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6A4C-005A-4EB9-8A5D-EE3E496923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AAD65-5AB7-4D9E-B3FE-FABE9CCBE0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C8BE9-D733-4A95-A3A3-4BCF5D796F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239A2-A5A4-4850-95DD-5B13AA82E5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0BD72-257F-41CA-B803-9D656A6012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0892C-4165-45F8-B1AA-D684493D1A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FF68B-88D5-47C0-B42B-CBB7C6B3D3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EDC07-7BE7-40D0-8CED-1D99B00452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A3265-5EEA-4517-8828-39F859725C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650C1-C561-452D-8E84-BC0D984238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552AF-3561-441F-82CC-C340B2040C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86A60-C2F8-449C-92E3-573D9E1A0B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F5649-B1F0-4204-AC14-AB33F6C5EF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F2BA-97F0-43C1-8705-B10EBDDAB7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4685-FA2B-4573-9B72-DB00087E44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D11D-151E-4BE3-8B06-66D6F28AA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9331-9DCE-4500-92C3-AA0ACA4A7C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9E06-3E8B-44DB-A40E-9373B539FE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A718-A9C1-481E-85F5-239C6DB965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1A4D-6BC5-4F9B-9E9B-0E8491D911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E68C-B409-4333-A32F-F4D38DA46D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DD18-328B-4B40-8F08-5F5D3CD870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1578-798D-4637-80F2-88F562E9F4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5DF7-3DC9-4153-8A8D-0BEA57320F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58FC-C8F9-49D5-8B88-5F400DB341D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89C53-5BBB-4EFA-85C9-6E00F8B72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7B71D-1445-4B4A-A229-C3EC0E212F2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F5F62-90A6-4F6F-B3DB-75B9A365E28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18E11-C39B-4A78-9634-222042DE204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34E87-790D-4A07-B7AA-3A7FFE291EB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7B5A6-3A7F-45EE-8FF5-132F0A490B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AF750-664D-44B8-869E-2155B48F855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BB072-B12D-44A2-9D0C-D6FFA684DE0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B6A41-4CE7-4F9B-B5D5-F800AB1DDB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88FFC-F58E-418A-91AC-3101EEC03E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2B25B-AE85-420F-B66E-75D67F3C3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5E854-0168-4476-A383-3E339724E1A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789FF8-04EE-41C7-94AC-260D939AA5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DFB394-BC20-4DE9-A422-D3945C4BB2B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5970D7-1A26-49DD-9514-2236B9D8CCF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8ADFC9-50F3-4754-AAB0-CBA04C85D1D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794367-242A-4256-BE37-B7DFAE0C587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7A1F8D-9E52-4F21-BDE4-CC139FF8B3D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691D66-21F8-49A0-B2FE-28BFF228B49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8E8364-2868-4577-B5D7-0F6EC006542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B30762-80B6-468D-9E19-9003581BA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3C7765-7443-4985-8A00-D173F222346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37358A-52B0-4115-A8B4-06575D1FF53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665BFA-6736-455A-9919-8892805E96F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37B74-E95A-47E0-B791-7CACDACC59E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09CAC-4232-41A8-A9C5-7CBA38D1CCE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F7DE3-48B4-4507-8553-DCFA60ED258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6B809-D71A-4D1C-B4B0-C4580361DB7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593F7-44E1-49D6-8C96-CA00F4002CB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9BE48-0037-4FD0-9272-CF439591360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8CC0E-D624-4379-8789-17C728372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61E33-842F-4DE1-8AF7-2457D66773C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F94D4-3829-4BDA-A716-9CD1D76167E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45D63-2180-4375-9FCF-23E1FB735CE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D1DEA-CFCE-460A-A58A-55F3C3E5AE0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1F646-F0E1-4112-81EA-F8FC9940887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A0030A-D6A2-41A0-8A66-FD1110EEBCA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A11BA-5E8B-429C-A2A6-5E2CD3B19E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D7E8F-5602-415D-9C54-DCD80272124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310181-1794-484C-B53D-78BA3040694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A1EFC-9270-44C7-94D3-F1C34E55A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3E9E8-6CCE-4DF1-BB46-885CEE7CF84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2B7BE-8D12-4469-9D9A-2EC0F9EE461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AECD0-7F18-4B93-82E8-6299656FC0B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9D7DB-7AA3-4BD9-AF1F-B67282E27FB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AB448-6318-42EE-96C6-5AB9BF9BF27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CE0AD-EC57-45FA-AE90-375578F5910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213F2-F8D5-4D6F-B9F6-B68B5CF4558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3E1A93-2BFC-4592-A0B6-6B8E5D6995E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B55CD7-D34F-42CF-8C21-7831F7E5147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4BC6DE-D875-4E3C-9119-39CD9184C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3906-6BDF-4DD6-92F5-47730E5A05D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80B7-EC62-427D-9A75-9E764C982A29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6C78-D902-4D90-9B63-4FC26CDF742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C3BC-895D-48D7-B612-3C47831D53F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A037-0C2B-49C0-8CEC-2DDC8E8215C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366D-A4AF-44AE-A773-80C15634750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62F2-3B5B-4AF9-A93F-EF1A0639690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1C33-12FF-4FC4-9FD2-21300D640A2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B459-147A-4152-AD16-E3F2F9B381F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A312-4EF1-419D-ACEB-0AEF7B08464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3276720" y="1098720"/>
            <a:ext cx="82152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Estetica e semiotica delle art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f. Ruggero Ragones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emestre: 1°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N°max studenti ammessi: 100 Polimi + 15 Erasmus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dalità d’esame per non frequentanti: Sì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991800" y="15876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Umanist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482436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3240000" y="2930400"/>
            <a:ext cx="568980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Il corso si propone nella prima parte di ripercorrere i rapporti, spesso conflittuali, fra </a:t>
            </a:r>
            <a:r>
              <a:rPr b="1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semiotica ed estetica</a:t>
            </a:r>
            <a:r>
              <a:rPr b="0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, provando a sviluppare un approccio comune a quello che è il dominio delle arti. Al di là del dibattito teorico, tuttavia, compito specifico del nostro percorso sarà quello di </a:t>
            </a:r>
            <a:r>
              <a:rPr b="1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apprendere i rudimenti di una metodologia, semiotica, di analisi dei testi </a:t>
            </a:r>
            <a:r>
              <a:rPr b="0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(nel senso più ampio del termine: film, dipinti, oggetti, scritti, spot, architetture etc.). 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Il percorso didattico comprenderà anche un’analisi che si svolgerà in forma di </a:t>
            </a:r>
            <a:r>
              <a:rPr b="1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laboratorio</a:t>
            </a:r>
            <a:r>
              <a:rPr b="0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, in cui proveremo a inserire questi testi in uno o più campi estetici, intesi come orizzonti di lettura definiti e limitati nel tempo e nello spazio e produttori di memorie culturali e norme artistiche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2" name="Picture 6" descr="C:\Users\chiara.rizzica\Desktop\022_capanna Laugier.jpg"/>
          <p:cNvPicPr/>
          <p:nvPr/>
        </p:nvPicPr>
        <p:blipFill>
          <a:blip r:embed="rId1"/>
          <a:srcRect l="1498" t="1444" r="1850" b="960"/>
          <a:stretch/>
        </p:blipFill>
        <p:spPr>
          <a:xfrm>
            <a:off x="-23760" y="1185840"/>
            <a:ext cx="3227400" cy="493884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3"/>
          <p:cNvSpPr/>
          <p:nvPr/>
        </p:nvSpPr>
        <p:spPr>
          <a:xfrm>
            <a:off x="-1152360" y="6093000"/>
            <a:ext cx="43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Marc-Antoine Laugier, </a:t>
            </a:r>
            <a:r>
              <a:rPr b="1" i="1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Essai sur l'architecture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, 1755</a:t>
            </a: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5" descr="C:\Users\chiara.rizzica\Desktop\01-mi-casa-your-casa.jpg"/>
          <p:cNvPicPr/>
          <p:nvPr/>
        </p:nvPicPr>
        <p:blipFill>
          <a:blip r:embed="rId1"/>
          <a:srcRect l="41191" t="0" r="15384" b="0"/>
          <a:stretch/>
        </p:blipFill>
        <p:spPr>
          <a:xfrm>
            <a:off x="0" y="1185840"/>
            <a:ext cx="3203640" cy="494352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3"/>
          <p:cNvSpPr/>
          <p:nvPr/>
        </p:nvSpPr>
        <p:spPr>
          <a:xfrm>
            <a:off x="991800" y="15876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Umanist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3279600" y="1087560"/>
            <a:ext cx="5740560" cy="66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La seconda parte del corso sarà dedicata ad </a:t>
            </a:r>
            <a:r>
              <a:rPr b="1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un approfondimento specifico </a:t>
            </a:r>
            <a:r>
              <a:rPr b="0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sul progetto di Rem Koolhaas per la curatela e l’allestimento alla Biennale di Architettura di Venezia 2014. Partiremo anche noi dai ‘fondamentali dell’architettura’, proposti da Koolhaas e dai suoi allievi di Harvard per condurre un’esplorazione su alcuni temi di ricerca e analisi dello spazio architettonico e delle sue rappresentazioni. 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Lo </a:t>
            </a:r>
            <a:r>
              <a:rPr b="1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spazio della cas</a:t>
            </a:r>
            <a:r>
              <a:rPr b="0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a con i suoi elementi fondamentali - con le sue pareti, i suoi soffitti, le sue stanze, le sue finestre, le sue porte servirà come punto di partenza per </a:t>
            </a:r>
            <a:r>
              <a:rPr b="1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un’analisi minuta delle singole parti dello spazio dell’abitare</a:t>
            </a:r>
            <a:r>
              <a:rPr b="0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. Questo non per tanto ritrovarne gli elementi architettonici, ma per </a:t>
            </a:r>
            <a:r>
              <a:rPr b="1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rintracciare le testualità </a:t>
            </a:r>
            <a:r>
              <a:rPr b="0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che riempiono o hanno riempito i luoghi dell’abitare. I dettagli degli oggetti, le particolari forme che hanno caratterizzato gli interni di una casa, ma anche i modi che si sono succeduti nella sua rappresentazione: immagini pittoriche, filmiche, scultoree. Una sorta di </a:t>
            </a:r>
            <a:r>
              <a:rPr b="1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repertorio delle scelte abitative </a:t>
            </a:r>
            <a:r>
              <a:rPr b="0" i="1" lang="it-IT" sz="15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che ovviamente sono sempre anche dense di implicazioni ideologiche ed estetiche da indagare sub specie semiotica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-1152360" y="6093000"/>
            <a:ext cx="43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Héctor Esrawe &amp; Ignacio Cadena, </a:t>
            </a:r>
            <a:r>
              <a:rPr b="1" i="1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Mi Casa-Your Casa, </a:t>
            </a: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Atlanta, 2014</a:t>
            </a: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chiara.rizzica</cp:lastModifiedBy>
  <cp:lastPrinted>2003-05-08T11:08:41Z</cp:lastPrinted>
  <dcterms:modified xsi:type="dcterms:W3CDTF">2014-08-01T14:59:37Z</dcterms:modified>
  <cp:revision>220</cp:revision>
  <dc:subject/>
  <dc:title>Inserire immagine della locandina, possibilmente in trasparenza e aggiungere Facoltà di Architettura Illustrazione prova di ammissione prof. Silvia Piardi (idem Cedolin)</dc:title>
</cp:coreProperties>
</file>